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95ED-7E0F-4042-BC84-7DC36090D0AD}"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23E6-C8D7-4193-869B-EA2D85749E0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390600" y="4173120"/>
            <a:ext cx="5929200" cy="4837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colour shows a difference between the two sets of principles.  Those in blackare content oriented while those in red are process orien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p for presenter. HR Principles will be treated in more detailed through a separate presentation. This is to provide quick understanding of defini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Universality and inalienability:  </a:t>
            </a:r>
            <a:r>
              <a:rPr b="0" lang="en-GB" sz="1000" spc="-1" strike="noStrike">
                <a:solidFill>
                  <a:srgbClr val="000000"/>
                </a:solidFill>
                <a:latin typeface="Calibri"/>
                <a:ea typeface="ＭＳ Ｐゴシック"/>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divisibility: </a:t>
            </a:r>
            <a:r>
              <a:rPr b="0" lang="en-GB" sz="1000" spc="-1" strike="noStrike">
                <a:solidFill>
                  <a:srgbClr val="000000"/>
                </a:solidFill>
                <a:latin typeface="Calibri"/>
                <a:ea typeface="ＭＳ Ｐゴシック"/>
              </a:rPr>
              <a:t>Human rights are indivisible. Whether of a civil, cultural, economic, political or social nature, they are </a:t>
            </a:r>
            <a:r>
              <a:rPr b="1" lang="en-GB" sz="1000" spc="-1" strike="noStrike">
                <a:solidFill>
                  <a:srgbClr val="000000"/>
                </a:solidFill>
                <a:latin typeface="Calibri"/>
                <a:ea typeface="ＭＳ Ｐゴシック"/>
              </a:rPr>
              <a:t>all </a:t>
            </a:r>
            <a:r>
              <a:rPr b="0" lang="en-GB" sz="1000" spc="-1" strike="noStrike">
                <a:solidFill>
                  <a:srgbClr val="000000"/>
                </a:solidFill>
                <a:latin typeface="Calibri"/>
                <a:ea typeface="ＭＳ Ｐゴシック"/>
              </a:rPr>
              <a:t>inherent to the dignity of every human person.  Consequently, they all have equal status as rights, and cannot be rank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ter-dependence and Inter-relatedness: </a:t>
            </a:r>
            <a:r>
              <a:rPr b="0" lang="en-GB" sz="1000" spc="-1" strike="noStrike">
                <a:solidFill>
                  <a:srgbClr val="000000"/>
                </a:solidFill>
                <a:latin typeface="Calibri"/>
                <a:ea typeface="ＭＳ Ｐゴシック"/>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1BE3-D38A-41AE-A7E2-CE969445C55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34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a:t>
            </a:r>
            <a:r>
              <a:rPr b="0"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rights of both men and women on the basis of equality is an absolute requirement of international human rights law.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The question to ask is which are the sectors of society excluded or not enjoying equal status and thus deprived of exercising their human rights? Are there laws in the country that are discriminatory? Are there institutional, administrative or regulatory practices that are discriminatory against a particular group of the population? Is there a prevailing culture of </a:t>
            </a:r>
            <a:r>
              <a:rPr b="0" i="1" lang="en-GB" sz="1000" spc="-1" strike="noStrike">
                <a:solidFill>
                  <a:srgbClr val="000000"/>
                </a:solidFill>
                <a:latin typeface="Calibri"/>
                <a:ea typeface="ＭＳ Ｐゴシック"/>
              </a:rPr>
              <a:t>“de facto”</a:t>
            </a:r>
            <a:r>
              <a:rPr b="0" lang="en-GB" sz="1000" spc="-1" strike="noStrike">
                <a:solidFill>
                  <a:srgbClr val="000000"/>
                </a:solidFill>
                <a:latin typeface="Calibri"/>
                <a:ea typeface="ＭＳ Ｐゴシック"/>
              </a:rPr>
              <a:t> discrimination in the society? Are there national standards for positive discrimination or affirmative action recognized and applied?. It is important to keep in mind that the human rights treaties have identified particular discriminated and disadvantaged groups for focused attention: women (CEDAW), children (CRC), racial and ethnic minorities (CERD), and migrant workers (CM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Structural discrimination: </a:t>
            </a:r>
            <a:r>
              <a:rPr b="0" lang="en-GB" sz="1000" spc="-1" strike="noStrike">
                <a:solidFill>
                  <a:srgbClr val="000000"/>
                </a:solidFill>
                <a:latin typeface="Calibri"/>
                <a:ea typeface="ＭＳ Ｐゴシック"/>
              </a:rPr>
              <a:t>derives from historic processes of exclusion from access to the economic, political and institutional resources needed to live on an equal footing with the rest of the popul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7BD9-2557-46AE-B7C6-94680CC3831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34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is principle:</a:t>
            </a:r>
            <a:r>
              <a:rPr b="0" lang="en-GB" sz="1000" spc="-1" strike="noStrike">
                <a:solidFill>
                  <a:srgbClr val="000000"/>
                </a:solidFill>
                <a:latin typeface="Calibri"/>
                <a:ea typeface="ＭＳ Ｐゴシック"/>
              </a:rPr>
              <a:t> The question to ask is whether marginalized and excluded people are able to participate freely in their own development and whether there are opportunities for participation? Do marginalized groups have access to information and the capacities to participate meaningfully And make specific proposals? are there spaces for public participation in the decision-making process? Are there parallel mechanisms disempowering the participation? Is there an active and independent civil society in the country that has the capacity to participate in such processes? Are civil society organizations representing the voice of the most marginalized and excluded? In the context of development cooperation it is necessary to ask whether the beneficiary target group is involved in the development and implementation, monitoring and evaluation of the programm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Meaning of Participation is Empower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 HRBA entails the free, active and meaningful involvement and participation of individuals and social groups in the development process. The meaning of participation here is in the sense of “empowerment” of individuals and groups, which implies significant control over decision-making processes, rather than mere consultation or information sharing. Accordingly, in the context of development programming broad participation involving for example, children, women, minorities, rural communities and civil society organizations during the assessment and in the gathering of information can lead not only to valuable findings but to increased understanding by all members of society of what their roles are in claiming and fulfilling human rights. Furthermore, when there are spaces for people to examine problems together and agree on the causes, they are more likely to support the implementation of actions to resol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role of managing effective particip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Managing effective participation takes time and patience. Whether it takes place at the local project level or the national policy level, it is important to stress that the principal mechanism for participation should, as far as possible, be existing democratic structures. In some circumstances, establishing alternative framework for participation can undermine fledging democratic structures, create unwelcome parallel systems and, in the longer term, prove unsustainable. Nevertheless, in many cases, innovative arrangements may well be needed to facilitate the participation of marginalized group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671C-904D-460B-94B0-996853E759E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34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 before a competent court or other adjudicator in accordance with the rules and procedures provided by la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By voluntarily accepting the obligations of the international human rights instruments, and the corresponding domestic laws, the State and all its actors have a duty to </a:t>
            </a:r>
            <a:r>
              <a:rPr b="0" i="1" lang="en-GB" sz="1000" spc="-1" strike="noStrike">
                <a:solidFill>
                  <a:srgbClr val="000000"/>
                </a:solidFill>
                <a:latin typeface="Calibri"/>
                <a:ea typeface="ＭＳ Ｐゴシック"/>
              </a:rPr>
              <a:t>respect, protect and fulfil</a:t>
            </a:r>
            <a:r>
              <a:rPr b="0" lang="en-GB" sz="1000" spc="-1" strike="noStrike">
                <a:solidFill>
                  <a:srgbClr val="000000"/>
                </a:solidFill>
                <a:latin typeface="Calibri"/>
                <a:ea typeface="ＭＳ Ｐゴシック"/>
              </a:rPr>
              <a:t> human rights. Therefore, the question to ask is whether the relevant authorities at the State, local and community level comply with their duties? If not, what are the main obstacles?  Are there mechanisms in place for those deprived of their rights and entitlements to seek appropriate redress? Is the Rule of Law respected and enforced in the country? Do the Civil Society Organizations have the capacity to mobilize the society in monitoring and evaluating the performance of institutions and public polic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D091-963F-42E6-833C-609F14C8FEA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34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Role of Constitutional Court or Similar Institution</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existence or establishment of an independent institution, charged with the surveillance of laws adopted by the Parliament and to rule on their constitutionality and/or their conformity with international human rights norms and standards, is important in the context of an effective NHRPS. Ideally, such courts or institutions automatically review all adopted legislation. However, in many cases they review laws which have been challenged - either by the Government, the Parliament, or in some cases by a judge or members of the civil society. Prerogatives of a Constitutional Court can be mandated to the Supreme Cour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dfdfd"/>
                </a:solidFill>
                <a:latin typeface="Calibri"/>
                <a:ea typeface="SimSun"/>
              </a:rPr>
              <a:t>Constitutional &amp; Legal Frameworks Shoul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Be in conformity with international human rights norms, standards and princip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Establish frameworks for policies for human rights prote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Allow effective remedies for violations and abu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Promote participation, decision-making processes and cooperation with international and regional protection syst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9CE2-D975-433A-BBB1-BDE0BC3018B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34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Courts in a wide range of countries and legal systems are applying international human rights principles and standards. For example, in 2002 the Constitutional Court of South Africa declared that the Government had breached its human rights obligations by failing to take reasonable measures (at affordable cost) to make wider provision of anti-retroviral medication to prevent mother-to-child transmission of HIV. This decision and the grass-roots campaign surrounding it have helped to save many lives. The successful outcomes in these cases are to a great extent attributable to the fact that litigation strategies were integrated within wider social mobilization proces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87622-14DC-4DBB-8C4C-BA378471D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F4B1B-C1FB-4A84-B4F2-3D460849E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80525-2F83-4C17-B708-AC7391979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2DC65-88AE-453A-AD9C-D870A002D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7E1F-3185-4F6E-9E07-E9BB7294A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7BC61-A0DE-4F34-8009-7AAC97E15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227C4-C00A-49E8-8F1E-AC5D7B3D9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F239D-1679-4B20-B9AA-8AB59C2E1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89474-4BE2-47BD-A513-CD6FC855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5EC9-A206-460E-8765-6A124D350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A00D-02E3-4C7A-B61B-4374BDE20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5446-EC23-4DA5-BBC4-BC87A644F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314F-6582-4764-A5EC-7406B04B844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9" descr="logo_small"/>
          <p:cNvPicPr/>
          <p:nvPr/>
        </p:nvPicPr>
        <p:blipFill>
          <a:blip r:embed="rId2"/>
          <a:stretch/>
        </p:blipFill>
        <p:spPr>
          <a:xfrm>
            <a:off x="250920" y="115920"/>
            <a:ext cx="649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uman rights principles</a:t>
            </a: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niversality and inalien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divisi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terdependence and interrelatedness</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Equality and non-discriminat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Participation and inclus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Accountability and the rule of law</a:t>
            </a:r>
            <a:endParaRPr b="0" lang="en-US" sz="2600" spc="-1" strike="noStrike">
              <a:solidFill>
                <a:srgbClr val="000000"/>
              </a:solidFill>
              <a:latin typeface="Arial"/>
            </a:endParaRPr>
          </a:p>
        </p:txBody>
      </p:sp>
      <p:pic>
        <p:nvPicPr>
          <p:cNvPr id="51" name="Picture 4" descr="MCj03839580000[1]"/>
          <p:cNvPicPr/>
          <p:nvPr/>
        </p:nvPicPr>
        <p:blipFill>
          <a:blip r:embed="rId1"/>
          <a:stretch/>
        </p:blipFill>
        <p:spPr>
          <a:xfrm>
            <a:off x="5691240" y="3070080"/>
            <a:ext cx="1952640" cy="15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quality and non-discrimination</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is principle requ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adication of legal, institutional, interpersonal and structural discrimination</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gramming implication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gal framework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rogate discriminatory legislat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 conducive to the enjoyment of all human rights by all</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institutions should ensure:</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presentation of marginalized or excluded grou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s are accessible and sensitive to gender, age and cultural difference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ropriate judicial and administrative redress mechanisms</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policies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llenge model of appropriation and concentration of resources leading to structural discrimination and exclus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ke affirmative ste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mote education and public awarenes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tion</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Free, active, meaningful and inclusive participatio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olicies, processes and procedures should provi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portunities for participation in planning and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ess to relevan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pacities to marginalized groups to formulate proposal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stitutional mechanism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based on democratic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disempower existing democratic or traditional structu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ivil society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active, independent and with capac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resent the voice of the marginalized and excluded grou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ntrol over decision mak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1)</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and other duty bearers to be answerable for the observance of human righ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 institution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provided with sufficient resources, responsibilities and independent authority to effectively monitor the Gover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independent human rights parliamentary bodies, national human rights institutions, judges, courts and legal counsel</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to cooperate with international human rights system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ing timely with international reporting oblig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iting Special Rapporteurs and providing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ing the TB/SP recommendatio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2)</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cessible, effective and independent mechanisms and procedures of redres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Legal framework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in conformity with human rights nor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conditions, procedures and mechanisms for rights-holders to claim their rights and duty-bearers to comply with their obligatio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ublic policie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ke progressive steps to address the weakness in the accountability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the human rights obligations of the State at a central, regional and local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lity (3)</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This principle requir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Free and independent media, and groups of human rights defenders representative of men, women and marginalized or excluded group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ogramming implica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n active, rights-sensitive civil society should:</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nitor the State compliance with its human rights oblig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rticulate concerns of the society and advocates for social human rights mechanism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E.g. Campaign on access to retro-viral medication in South Afric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6:24:22Z</dcterms:created>
  <dc:creator>General User</dc:creator>
  <dc:description/>
  <dc:language>en-US</dc:language>
  <cp:lastModifiedBy>Alex MacKenzie</cp:lastModifiedBy>
  <dcterms:modified xsi:type="dcterms:W3CDTF">2010-09-08T18:52:39Z</dcterms:modified>
  <cp:revision>28</cp:revision>
  <dc:subject/>
  <dc:title>Slide 1</dc:title>
</cp:coreProperties>
</file>